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0C7-E17A-43F4-87D2-11E62213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C81-11CC-4869-ADD4-37956199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CF3-176E-4AEF-82D6-3DF5D598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1D3-656A-473E-B8BB-05F7DC6D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D13-2D8E-4CA1-852A-EC75700B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FBE-9201-4020-A2D9-73F6AFE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A70-5A41-42CB-AD0C-1864B4F8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E37-CFFF-4046-9BB8-27755DED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3A7-60DF-426F-A769-F601680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F05-EA68-4CD1-83F3-7715E4A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A89-6766-4BAD-B7FD-98EEC22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101-5D1E-46C2-89C3-EAEB9AF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1A3-5F8B-478A-9BA0-645BC3967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in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43360" y="3090960"/>
            <a:ext cx="39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rugs in Sport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1640" cy="362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08720" y="0"/>
            <a:ext cx="331128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to Th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were a top class sports person and you wanted to improve performance, What aspects of your body function would you need to improve.  (1 Min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8136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5 main areas that use of drugs could affect and which might improve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scle builders- such as anabolic 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4076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timulants – these make you feel more alert and energetic e.g. caffeine, 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1336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ranquilisers/painkillers- help you to control your nerves or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5661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iuretics – aid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ntrol e.g. 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941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lood builders which increase the red blood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7782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to guess what these areas are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620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For you to do. Write your answers in your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125360"/>
            <a:ext cx="8424720" cy="5435280"/>
          </a:xfrm>
          <a:prstGeom prst="rect">
            <a:avLst/>
          </a:prstGeom>
          <a:solidFill>
            <a:srgbClr val="d0ca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Why might an athlete use a drug which increased the number of red blood cells in his/her bl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Sportsmen and women may not be allowed to use strong pain killers.  How do you think they might give an unfair advantage?  ( Think about possible effects on the rest of the body, not just the site of an inju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Some drugs and food supplements build up your muscle ma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99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Why do you think some may be bann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99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What might be another adverse effect of using steroids to increase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2 the British skier who had just won a Bronze Medal, Alan Baxter,  tested positive for Methamphetamine, a banned stimulant. He Claimed that it must have come from a nasal spray he had bought in USA to relieve his congest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happen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581360"/>
            <a:ext cx="7848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stripped of his medal and banned from his sport for 2 years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5589720"/>
            <a:ext cx="7920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think this was fair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1125360"/>
            <a:ext cx="8497800" cy="327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drugs are called ‘ recreational’ 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 you think this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mpression of drug use does it promo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you think this impression is appropriate? Explain your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drugs do you think would be described as ‘Recreational’ and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people would argue that legal drugs can be more of a menace in society than illegal drugs.   Why do you think they might think this?  What is your vie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58136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r you to do in you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use Page 51 of the text book and  answer Questions 1. 2a) and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3:33:24Z</dcterms:created>
  <dc:creator>sthalliwellp</dc:creator>
  <dc:description/>
  <dc:language>en-US</dc:language>
  <cp:lastModifiedBy>sthalliwellp</cp:lastModifiedBy>
  <dcterms:modified xsi:type="dcterms:W3CDTF">2006-09-15T13:26:34Z</dcterms:modified>
  <cp:revision>12</cp:revision>
  <dc:subject/>
  <dc:title>Drugs in Sport</dc:title>
</cp:coreProperties>
</file>